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CC1-2F49-4818-B567-3CF34A21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140-96C6-4126-817F-13290656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AA9-2D70-41FB-A114-E5351325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196-6DB2-483A-8C84-FE691E42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FD9-DD81-4D1B-8F68-C5CED06D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56DA-5CBB-4880-B82C-9887FAC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E7E-530F-4FDF-80FC-80EE0DF9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0012-EC72-4566-9F2D-17ECA454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FEC5-AD0F-44E0-B2FA-970CDD6A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EA06-DA7C-4AB6-A562-03693B68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839B-3041-400B-B880-15EF7DB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732-DE49-4809-B435-07BB6CD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74CE-08AF-4ABF-BF0F-012C9F5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634-3DD3-4E8E-B879-52C414F5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16F7-DFA7-4A09-BC7A-D6FC459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4BB5-0EB9-41E1-9BF8-B9FAD156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922A-5FC6-4F10-8FE7-CE49176F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AF2-C00A-4441-B41E-73A519B4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FEC-EB6B-4878-9885-26335B14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FF5-C510-4F4C-8273-922930E7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8AF-D64F-431A-9727-4D0436E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AC6-FCC2-4CE5-9DE5-99CF720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8B8-36F4-444A-A426-EB248A9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A23-32A5-499A-9697-B1CB3CD6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AB1-4A3C-4A4A-B656-F20A6DAA413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9C79-3475-4A81-8561-FDFBF35111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ражданское общество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авовое государство»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2343240" y="0"/>
            <a:ext cx="4019400" cy="3809880"/>
          </a:xfrm>
          <a:prstGeom prst="ellipse">
            <a:avLst/>
          </a:prstGeom>
          <a:solidFill>
            <a:srgbClr val="33cccc">
              <a:alpha val="62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</a:rPr>
              <a:t>ГРАЖДАНСКОЕ ОБЩЕСТВО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социальные струк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тнош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торые не регулиру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астью и государ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505320" y="2565360"/>
            <a:ext cx="3886200" cy="3683160"/>
          </a:xfrm>
          <a:prstGeom prst="ellipse">
            <a:avLst/>
          </a:prstGeom>
          <a:solidFill>
            <a:srgbClr val="99ccff">
              <a:alpha val="3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  <a:ea typeface="Times New Roman"/>
              </a:rPr>
              <a:t>ГРАЖДАНСКОЕ ОБЩЕСТВО –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пределенном этапе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ого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ого развития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нова демократическог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ого государства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152280" y="2565360"/>
            <a:ext cx="4381560" cy="4292640"/>
          </a:xfrm>
          <a:prstGeom prst="ellipse">
            <a:avLst/>
          </a:prstGeom>
          <a:solidFill>
            <a:srgbClr val="33cc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70"/>
                </a:solidFill>
                <a:latin typeface="Times New Roman"/>
              </a:rPr>
              <a:t>ПРАВОВОЕ ГОСУДАРСТВО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граниченное в своих действиях прав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чиненное воле суверенного народ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аемой в конститу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ванное обеспечи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новополагающие пр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вободу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6362640" y="376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962680" y="746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форм собственности (частная и др.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крат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защищённость граждан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куль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457200" y="11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0" y="476280"/>
            <a:ext cx="3276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овенство закон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прав и свобод личности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форма взаимоотношений индивида, общества и государств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разделения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533840" y="28843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819520" y="29257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3619440" y="416880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5:08:22Z</dcterms:created>
  <dc:creator>user</dc:creator>
  <dc:description/>
  <dc:language>en-US</dc:language>
  <cp:lastModifiedBy>Ильясова Наталья Николаевна</cp:lastModifiedBy>
  <dcterms:modified xsi:type="dcterms:W3CDTF">2012-12-19T12:19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